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2908-7F87-4B78-A89F-5748A2AC0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4650-91D3-4096-83F4-A3B2702B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7BD1-954F-4C87-9FA3-41102433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B658-BBEF-4BB8-8998-BD973CA58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F187-C1FD-4E40-91D2-3CE14EF2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68B8-5133-4624-9347-38C3CFE1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D473-0DE9-440A-8993-28268C44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58E7-377D-4B66-9D00-93036B3A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D832-8E45-475A-B0B5-DB809ADB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E923-671F-417B-97EE-DADD6E73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4E48-9807-4A55-9BD9-E7951CCD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82B2-0E8E-4878-9378-4880DBAF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75AC-F94D-4B7B-AA7D-310E7354A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Adjective Cl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xplanation and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Identifying vs. Non-Identif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nk about if a listener or reader would be able to identify the noun without the adjective cla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04920" y="3124080"/>
            <a:ext cx="7924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e is the man who works at the grocery stor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304920" y="4052880"/>
            <a:ext cx="8534160" cy="28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s is essential (identifying) information.  Think about it as two sentence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He is a man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He works at the grocery store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ithout the second sentence, you couldn’t identify him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Notice that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become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because the noun changes from indefinite to definite because of the identification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8" name="Picture 11" descr="professions"/>
          <p:cNvPicPr/>
          <p:nvPr/>
        </p:nvPicPr>
        <p:blipFill>
          <a:blip r:embed="rId1"/>
          <a:stretch/>
        </p:blipFill>
        <p:spPr>
          <a:xfrm>
            <a:off x="5105520" y="12952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Identifying vs. Non-Identif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nk about if a listener or reader would be able to identify the noun without the adjective cla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304920" y="3200400"/>
            <a:ext cx="79246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aria, who works as a physician’s assistant, enjoys her job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04920" y="4452840"/>
            <a:ext cx="853416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s is extra (non-identifying) information.  Think about it as two sentence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aria enjoys her job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aria works as a physician’s assistant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You know her name from the first sentence.  This is enough to identify her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3" name="Picture 6" descr="professions"/>
          <p:cNvPicPr/>
          <p:nvPr/>
        </p:nvPicPr>
        <p:blipFill>
          <a:blip r:embed="rId1"/>
          <a:stretch/>
        </p:blipFill>
        <p:spPr>
          <a:xfrm>
            <a:off x="5105520" y="1295280"/>
            <a:ext cx="36576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an Adject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An Adjective describes a noun.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Remember nouns can either be subjects, objects or objects of preposi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2819520" y="2362320"/>
            <a:ext cx="34290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ich words are adjectives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unkind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as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areles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lentl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ld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819520" y="2362320"/>
            <a:ext cx="34290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ich words are adjectives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unkind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as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areles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lentl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ld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5257800" y="2819520"/>
            <a:ext cx="3352680" cy="35049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5410080" y="3962520"/>
            <a:ext cx="838440" cy="17524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AutoShape 9"/>
          <p:cNvSpPr/>
          <p:nvPr/>
        </p:nvSpPr>
        <p:spPr>
          <a:xfrm>
            <a:off x="6400800" y="5181480"/>
            <a:ext cx="990720" cy="8384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1371600" y="311616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447920" y="5334120"/>
            <a:ext cx="60948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an Adjective Clau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-160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n Adjective clause is a dependent clause (dependent word + subject and verb) that describes a no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You can imagine that an adjective clause is taking two sentences about the same noun and making them into one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762120" y="3962520"/>
            <a:ext cx="76960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oute 66 is a long road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s road goes from Chicago to California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oute 66 is a long road that goes from Chicago to California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04920" y="3962520"/>
            <a:ext cx="88390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postcard shows a beautiful vista of the Grecian coastline.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 bought the postcard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postcard which I bought shows a beautiful vista of the Grecian coastlin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609480" y="3962520"/>
            <a:ext cx="88394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oute 66 is a long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roa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s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roa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goes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from Chicago to California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oute 66 is a long road </a:t>
            </a:r>
            <a:r>
              <a:rPr b="1" i="1" lang="en-US" sz="2400" spc="-1" strike="noStrike">
                <a:solidFill>
                  <a:srgbClr val="000000"/>
                </a:solidFill>
                <a:latin typeface="Century Gothic"/>
              </a:rPr>
              <a:t>that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goes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from Chicago to California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Subject Relative Pro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e use relative pronouns to create dependent clau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relative pronoun replaces the word in common between the two senten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ometimes, the relative pronoun will be the subject of the dependent cla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762120" y="3962520"/>
            <a:ext cx="7696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ubject Relative Pronoun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eople: Who or Th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ngs or Animals: Which or Th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ossessive: Whos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Oval 6"/>
          <p:cNvSpPr/>
          <p:nvPr/>
        </p:nvSpPr>
        <p:spPr>
          <a:xfrm>
            <a:off x="1143000" y="5105520"/>
            <a:ext cx="99072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609480" y="3962520"/>
            <a:ext cx="883944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e postcar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hows a beautiful vista of the Grecian coastline.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 bought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e postcar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postcard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I bought shows a beautiful vista of the Grecian coastlin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Object Relative Pro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157680" indent="-157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ometimes, the relative pronoun will replace the object in the dependent clause or the object of a pre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7680" indent="-157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o connect this type of clause, the relative pronoun must be moved to the front of the clause – in front of the su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62120" y="3962520"/>
            <a:ext cx="7696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Object Relative Pronoun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eople: Whom, Who or Th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ngs or Animals: Which or Th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ossessive: Whos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Things to 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2000"/>
          </a:bodyPr>
          <a:p>
            <a:pPr marL="75240" indent="-75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relative pronoun replaces the noun – don’t use it and the noun in the dependent cla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63440" indent="-6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1280" indent="-5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e postcard is pretty. I bought the postc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ncorrect: The postcard which I bought the postcard is pret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orrect: The postcard which I bought is pret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relative pronoun must be next to the word it describ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63440" indent="-6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1280" indent="-5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ncorrect: The sharks opened their mouths while they swam by the boat which were full of sharp tee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1280" indent="-5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orrect: The sharks opened their mouths which were full of sharp teeth while they swam by the bo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Things to 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6000"/>
          </a:bodyPr>
          <a:p>
            <a:pPr marL="88920" indent="-88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rmal written English:  In formal, academic English in adjective clauses with object relative pronouns, for people, we use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whom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.  In adjective clauses with an object of a preposition, bring the preposition forward and use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whom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2960" indent="-7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ample: Jack London, whom I admire, wrote a lot of short s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97000" indent="-59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Rather than: Jack London, who I admire, wrote a lot of short sto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97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2960" indent="-7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ample: The presidency is the position to which many politicians asp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97000" indent="-59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Rather than: The presidency is the position that many politicians aspire 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Things to 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You must understand whether or not the dependent clause is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ssential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formation or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xtra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information in the understanding of the noun.  This impacts the meaning and the punct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ssential clauses are also called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identifying or restrictive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. We DO NOT use commas with these clau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xtra clauses are also called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non-identifying or non-restrictive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. WE MUST use commas with these clauses.  We cannot use the relative pronoun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at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Things to 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an you understand a difference between these two senten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8720" indent="-145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y sister, who lives in Bel Air, has three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8720" indent="-145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y sister who lives in Bel Air has three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82840" indent="-116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n which sentence is it clear that I have more than one sis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80880" y="3581280"/>
            <a:ext cx="822960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What about between these two sentences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He looked in the refrigerator, and he threw away the food which was rotten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He looked in the refrigerator, and he threw away the food, which was rotten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n which sentence is all of the food in the refrigerator  rotten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7:30:36Z</dcterms:created>
  <dc:creator>GerritJX</dc:creator>
  <dc:description/>
  <dc:language>en-US</dc:language>
  <cp:lastModifiedBy> </cp:lastModifiedBy>
  <dcterms:modified xsi:type="dcterms:W3CDTF">2010-05-11T21:13:02Z</dcterms:modified>
  <cp:revision>5</cp:revision>
  <dc:subject/>
  <dc:title>Adjective Clauses</dc:title>
</cp:coreProperties>
</file>